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49F-395B-45C0-8797-379E9741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1EA-FEEC-44F9-BB1E-5E563F0F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42D-CF38-4558-843D-050C1B22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2A0-4721-43D2-9716-8A61EACA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009-7F7A-4F73-9175-D9814643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258-114B-48A0-99B9-9A603AB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FA4-3648-4A0D-80DB-501399A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C6A-42A9-4ED6-A643-9F642D8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61D-3D67-4527-807A-39A88B8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E50-71D1-42D3-9DA3-FBB8625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2E4-C32D-468D-B26B-2E55FF7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A4A-583A-4A8E-9503-63BDAE0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5FE-563A-4E1B-B035-FD466CBA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hyperlink" Target="http://www.historyonthenet.com/WW1/assassination.htm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3.xml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7.xml"/><Relationship Id="rId11" Type="http://schemas.openxmlformats.org/officeDocument/2006/relationships/slide" Target="slide5.xm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  What were the causes of the Great Wa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6933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No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py your unit vocab in your Glo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belief of a government that a country should maintain a strong military and be prepared to use it aggress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 an agreement between two or more parties in order to advance common goals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nch warfare-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orm of warfare where both sides have stationary positions dug into the groun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paga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m of advertising that is meant to stress a specific point of vie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4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900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260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296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638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ssass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murder of Austrian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25909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447920" y="76212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During the time the major European nations were building up their military strength and power.  This competition could be seen as a maj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7010640" cy="478476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6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9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1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9144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artoon illustrate the idea of Nationalis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2168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85800"/>
            <a:ext cx="2911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he increase of the spread of power dur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of Imperialism many European nations be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colonies (and other forms of Imperialism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o illustrate their streng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838080"/>
            <a:ext cx="56386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YCDOE</cp:lastModifiedBy>
  <dcterms:modified xsi:type="dcterms:W3CDTF">2012-01-05T13:54:14Z</dcterms:modified>
  <cp:revision>52</cp:revision>
  <dc:subject/>
  <dc:title>Slide 1</dc:title>
</cp:coreProperties>
</file>